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2B6-D691-4179-9E82-54F2C33E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F51-AA50-4C7C-A2BD-755B65AD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A68-885F-4DCC-81F5-C34A14A3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4E9-4E0B-49B2-97CB-AA1E7ACD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7E7-20A4-48DB-9961-B79E883E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95E-CEEA-481D-8DF3-5118944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639-EA77-4FFA-A420-CE4537C9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3B6-8F2A-46BD-B5AB-F7BC0FC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F58-CEBE-48FF-A468-E2E1408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851-CAAF-4FC3-B334-331EAA3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8B3-8961-4B51-8E0C-C44B1A9E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964-EC3C-444A-A879-CECB4292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41C0-303C-485C-B408-60F92AE2E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ff"/>
                </a:solidFill>
                <a:latin typeface="Magneto"/>
              </a:rPr>
              <a:t>How Hard Does Speed Work?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Do boys or girls run faster and or harder in spri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pperplate Gothic Bold"/>
              </a:rPr>
              <a:t>I think boys will run faster and harder than girls on average, just to get it over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Results (Down Back Dow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Jordan- 16 sec. 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leb- 16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dy- 15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llin- 14 sec./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meron- 17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Andi- 14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helsey- 16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Destiny- 17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Haylie- 18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Brityn- 18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Results (Suici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Jordan- 25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leb- 25 sec./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dy- 26 sec./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ollin- 24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ameron- 26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Andi- 23 sec./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helsey- 26 sec./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Destiny- 27 sec./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Haylie- 28 sec./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Brityn- 31 sec.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agneto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My hypothesis was right. The boys did, on average, run faster. However, the fastest was a girl, An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agneto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Sprinting (Running)." 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Wikipedia.org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. Web. 15 Dec. 2010. &lt;http://en.wikipedia.org/wiki/Sprint_(running)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"How to Improve Your Sprinting Technique." 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Sport Fitness Advisor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. Web. 13 Jan. 2011. &lt;http://www.sport-fitness-advisor.com/sprintingtechnique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"Sprinting." 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Redirect to Index page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. N.p., n.d. Web. 26 Jan. 2011. &lt;http://www.brianmac.co.uk/sprints/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I would like to thank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ameron Fair, Cody Salazar, Caleb Hendricks, Brian Walker, Collin Anderson, Andi Dowell, Destiny Nickerson, Chelsey Riffel, Henry Weiner, Kasady Smith, Mrs. Ri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34:37Z</dcterms:created>
  <dc:creator>USD376</dc:creator>
  <dc:description/>
  <dc:language>en-US</dc:language>
  <cp:lastModifiedBy>USD376</cp:lastModifiedBy>
  <dcterms:modified xsi:type="dcterms:W3CDTF">2011-02-16T15:09:59Z</dcterms:modified>
  <cp:revision>5</cp:revision>
  <dc:subject/>
  <dc:title>Slide 1</dc:title>
</cp:coreProperties>
</file>